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FA7-1FA5-4EE6-8204-12A714EE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513-FACD-44CA-B909-4282EB3D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3BA-13FB-4A7F-A1B7-0DBEBAC2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774-36FD-46C8-8143-4EAF0C4B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D8FB-DE53-4CDA-BEAD-F60C9A0A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CC7B-D3DC-4232-8CB4-AF475F3D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9104-E90B-4730-8CF2-E2FAC9B9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02BF-E90B-4FB7-A26C-2B7D218E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DB0B-C847-4E1E-ADA4-37ACC4CD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0EAB-1A81-4BBF-9ECA-EC8F3FB8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A517-AC81-4EE8-87EB-7E403FCF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9979-D660-404C-AA60-CEB75A7C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FBC8-651C-475E-A011-E32BEB5B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1D7B-339F-430B-8CB4-E1A7391F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DC43-A22B-49A9-ADE8-3ED26D7A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6C5A-693C-4E4B-8E5B-A93DACBC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10ED-9EAD-4241-AD79-51619FDA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6D4-43EC-4DC6-B0D4-467EF3BA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3EA-5A77-4488-B413-13AC03D1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3AF-BAF8-4F9C-B401-4A269E4C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B05-2B9E-41F5-BB1F-D44424DB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C0D-4E55-499C-95C2-A3DF332E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5E8-88D4-4072-B2AF-4F425906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23C-ACF7-48E2-895B-0DCB4508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9BB0-9E9B-4CFE-AE46-4EBB025BF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A087-E519-4C98-9B12-0C7834391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mall Group Presen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Task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come the “resident expert” about a particular type of assessment tas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collaboratively to design a direct-instruction style of presentation to teach the rest of the class everything they need to know about your assessment tas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p Top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ary Cho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Choi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l in the Blank/Comple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 Ans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Resour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T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itional information from 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ever else you ne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entation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icipatory Set (pre-assessment/hoo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of knew knowledge (Include Good &amp; Bad Examples and wh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ided Practice:  Students apply what they have learn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s out the assessment you created to measure student learn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s out a Student “Cheat Sheet” to help them remember the rules and guidel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et your group me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iew the task to make sure everyone understand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gin your journey towards become a “resident expert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all your research done before class on Wednesday so you can focus on writing your learning goals and creating your presentation or assess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9:23:40Z</dcterms:created>
  <dc:creator>emu</dc:creator>
  <dc:description/>
  <dc:language>en-US</dc:language>
  <cp:lastModifiedBy>EMU User</cp:lastModifiedBy>
  <dcterms:modified xsi:type="dcterms:W3CDTF">2011-02-05T19:54:04Z</dcterms:modified>
  <cp:revision>6</cp:revision>
  <dc:subject/>
  <dc:title>Slide 1</dc:title>
</cp:coreProperties>
</file>